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3566-E55B-46AD-AC96-F3134968F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8070-27B3-41E1-916F-89C1A95B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B774-02A1-444F-A00E-EEDCAD3D2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8DF4-78FD-4444-8019-3109DC4E4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1E7A-A750-4CD7-A849-A48B41EF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B083-820B-4625-9BE9-89A65620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B8E8-B439-43ED-900B-25987CFB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3B72-76B9-4DE4-B583-435CD0C4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F837-E9B7-4285-B36A-895A715C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3C94-A548-48C1-A158-007ED770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FB65-9B5F-43D5-878B-1884D1EA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6BED-DB2F-4FAF-9614-B7140F7D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BEFF-119D-4365-B22D-568E0CDD1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812000" cy="1511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3086280" cy="787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09480" y="3352680"/>
            <a:ext cx="6034320" cy="11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280" y="139680"/>
            <a:ext cx="8763120" cy="1217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62120" y="3809880"/>
            <a:ext cx="60339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5729400" cy="673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662940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374652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07732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8:26:11Z</dcterms:created>
  <dc:creator>Graham</dc:creator>
  <dc:description/>
  <dc:language>en-US</dc:language>
  <cp:lastModifiedBy>Graham</cp:lastModifiedBy>
  <dcterms:modified xsi:type="dcterms:W3CDTF">2012-09-30T18:26:19Z</dcterms:modified>
  <cp:revision>1</cp:revision>
  <dc:subject/>
  <dc:title>Slide 1</dc:title>
</cp:coreProperties>
</file>